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80569"/>
        <c:axId val="76891539"/>
      </c:barChart>
      <c:catAx>
        <c:axId val="95280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91539"/>
        <c:crosses val="autoZero"/>
        <c:auto val="1"/>
        <c:lblAlgn val="ctr"/>
        <c:lblOffset val="100"/>
        <c:noMultiLvlLbl val="0"/>
      </c:catAx>
      <c:valAx>
        <c:axId val="76891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80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2F1-D0DA-4CFA-A25E-9B0E9D46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E9E-746A-4D77-A9F0-BF7BDFD6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226-6D64-466D-8B50-A75F133A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9E9-BC67-4BCB-9110-BF640871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1F8-79D9-4475-BEC0-495778A6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8AE-8CDE-4CEB-A3F7-C8265DB5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723-A5F0-4898-8BCD-9AA5CB94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AE4-DE07-40D6-A09B-1FA42D83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858-401F-48C9-BB57-05646854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EEE-A5D6-4D30-BD06-732EBD3C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F9A-820A-4BBD-8DE6-D4CF0A8F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BDB-0F4A-4A08-AF61-49C92B20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75670-C285-4C2A-8D07-CB06928688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