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49716"/>
        <c:axId val="59663959"/>
      </c:barChart>
      <c:catAx>
        <c:axId val="47949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63959"/>
        <c:crosses val="autoZero"/>
        <c:auto val="1"/>
        <c:lblAlgn val="ctr"/>
        <c:lblOffset val="100"/>
        <c:noMultiLvlLbl val="0"/>
      </c:catAx>
      <c:valAx>
        <c:axId val="59663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9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8E6-CE3D-4075-BD60-25EAB65F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12A-1C8F-4E96-8AB0-2C7EA2C5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DFC-DA43-441F-A857-10188FF4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498-7070-494F-B84E-173D717F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117-2DCA-41EF-9B4A-2A62673E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E81-4F6D-430B-8ECC-683AE19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91B-1D4A-474C-8B09-DFDEB1BE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96C-5E35-44E2-A05B-3318E25B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F68-F753-4F9A-A625-D86A1E2E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A8B-AA65-4C54-80A8-1146A64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EE2-ED4E-4A54-BA1D-755B0F5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124-4B77-43DF-8723-08ACCDCF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74744-A49C-42B0-ACA7-6F338EE045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