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08046"/>
        <c:axId val="42891286"/>
      </c:barChart>
      <c:catAx>
        <c:axId val="43408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91286"/>
        <c:crosses val="autoZero"/>
        <c:auto val="1"/>
        <c:lblAlgn val="ctr"/>
        <c:lblOffset val="100"/>
        <c:noMultiLvlLbl val="0"/>
      </c:catAx>
      <c:valAx>
        <c:axId val="42891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08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96E-8F2F-4D7B-B31B-BC537920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04A-31AA-472D-8404-02834D2A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F83-9B9A-4D34-920E-50DC8ECC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568-A89D-4616-813D-2683B8A7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3CC-B4D7-47A2-9122-2497BCC4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0F3-5155-4937-998E-E09B9493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D0E-A367-4C61-83CA-E7F33378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E57-E2D1-4E67-BEED-2484D594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F9E-0853-43FE-8248-DBAFDB33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7F8-AC7A-450C-BDB3-92089232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A7F-4EB2-4C01-95B0-8A69BFD7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6AA-A254-4415-AED1-5B950BE4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A35DD-0ED8-4185-87D6-99B83FC4CC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