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320391"/>
        <c:axId val="92538631"/>
      </c:barChart>
      <c:catAx>
        <c:axId val="99320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38631"/>
        <c:crosses val="autoZero"/>
        <c:auto val="1"/>
        <c:lblAlgn val="ctr"/>
        <c:lblOffset val="100"/>
        <c:noMultiLvlLbl val="0"/>
      </c:catAx>
      <c:valAx>
        <c:axId val="925386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20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D6EE-5E53-44BD-ABB7-64A49C4B4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3860-9820-4515-A595-0D821102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070A-BBDC-43C4-82F8-120367B2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D66F-DC56-40D8-94EB-F2445C8A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835D-33B0-4D04-BF81-080AFBA1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CFAA-DCB6-4AE6-B99B-1AF76F68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C87D-D2FB-430C-9D6D-E35E070A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EACA-063A-4FEE-B5FA-51487156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A580-B010-4BBF-94E8-044D24A4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8B05-480B-4AB1-A6F4-C16F6AD0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4FB6-69C5-4586-A025-8FFC73C0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2712-A4F7-4B41-BC9B-63DE9676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62C04-F5A8-4F49-8948-6E4A68E5D7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