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3996"/>
        <c:axId val="57255120"/>
      </c:barChart>
      <c:catAx>
        <c:axId val="5513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55120"/>
        <c:crosses val="autoZero"/>
        <c:auto val="1"/>
        <c:lblAlgn val="ctr"/>
        <c:lblOffset val="100"/>
        <c:noMultiLvlLbl val="0"/>
      </c:catAx>
      <c:valAx>
        <c:axId val="572551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3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48D-83E6-44C9-8BCB-DE2C8E12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7843-5F95-4B86-B80D-1677C08C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307-C79F-46C0-BAD6-AFE5D7B2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850-AF76-4C1F-9E7E-0CA7D2A7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C6D-FCC0-4636-8749-01009339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5B70-3A0D-40D7-B522-E208D3AB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E1B-7551-430F-8DF1-C8E2A612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54F4-893F-4BD6-8594-2A65B6C3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A24-C972-4C99-AA4C-99C4BCB2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11B-8013-4D7B-8C97-8F68CA3C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678-ACB1-4F9B-80C4-D434EC27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271-B2E2-4D59-AF05-C59DB646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F6550-2085-400F-9580-9DE1B1FE57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