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07974"/>
        <c:axId val="16432631"/>
      </c:barChart>
      <c:catAx>
        <c:axId val="450079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32631"/>
        <c:crosses val="autoZero"/>
        <c:auto val="1"/>
        <c:lblAlgn val="ctr"/>
        <c:lblOffset val="100"/>
        <c:noMultiLvlLbl val="0"/>
      </c:catAx>
      <c:valAx>
        <c:axId val="164326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079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E40C-DAFF-42DD-B057-6D2A0214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F6F1-7AA8-456B-B9CF-D85A24F1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269-EA30-4465-9C9F-3B5A43A3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F82-B264-47A6-9679-CA12B49B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2C6-70C6-4763-A974-D65E83E0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E776-7BF3-4D7B-8A90-27D568A9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29E-0936-43B7-833A-FAF4AF8B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2AE5-D750-4292-AB59-A8A025F3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1289-39D7-499B-86E1-F2D42F35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D16E-F957-46DB-8ECE-9BD3E7F7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065D-3125-483C-A09A-98F5FEBB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D24-5B1D-4AF3-A0D1-9CB0254A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AB9B5-BC93-4F7D-9F96-45CB773C10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