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6479"/>
        <c:axId val="43677642"/>
      </c:barChart>
      <c:catAx>
        <c:axId val="2206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77642"/>
        <c:crosses val="autoZero"/>
        <c:auto val="1"/>
        <c:lblAlgn val="ctr"/>
        <c:lblOffset val="100"/>
        <c:noMultiLvlLbl val="0"/>
      </c:catAx>
      <c:valAx>
        <c:axId val="436776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6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50D-9A54-42AF-932B-147186CE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A21-7C1B-479E-9843-36DF8F90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52C-D65F-406C-AECE-58A352D92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F75-79EA-492D-A2CF-F29A0EBB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EDCC-8A2F-4381-B674-32B46474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37E-F382-4A81-B655-8B68ABFD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6593-37D8-4684-8348-FF14F30B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E92-4054-4F83-8443-9A04E7B3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ACD9-9178-4450-8835-CAE79AA2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9E16-401F-4D32-949B-F707FE7E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B4F1-F707-4134-9136-0A49F100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17C-0E55-48FC-8982-601AF828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99CE6-4F84-48F0-8C34-8D312FCFCA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