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02502"/>
        <c:axId val="35250697"/>
      </c:barChart>
      <c:catAx>
        <c:axId val="26102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50697"/>
        <c:crosses val="autoZero"/>
        <c:auto val="1"/>
        <c:lblAlgn val="ctr"/>
        <c:lblOffset val="100"/>
        <c:noMultiLvlLbl val="0"/>
      </c:catAx>
      <c:valAx>
        <c:axId val="35250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02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AA9-D9E3-4662-8BBD-CF8D381E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3D9-13D7-477F-BDED-B54E9386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B77-5F45-4110-A45F-6F24CCF3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F5F-3030-4C55-A992-96A32375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C33-3C11-4513-82AC-4B6FAA25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417-F5C8-47B2-AE46-E9791558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0F7-4967-4EE3-81DB-AE8468F8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D80-667A-4A9D-8B0E-26415C63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13B-981F-479B-A608-BDF49BCE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716-AE4D-48BA-BE4C-3BAF297D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C17-C6AA-4610-A888-1661683B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C5EA-9E0B-4D75-A025-A2EEC4F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C4E71-E48E-4B16-9B61-912BFA0F45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