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74340"/>
        <c:axId val="82310492"/>
      </c:barChart>
      <c:catAx>
        <c:axId val="73574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10492"/>
        <c:crosses val="autoZero"/>
        <c:auto val="1"/>
        <c:lblAlgn val="ctr"/>
        <c:lblOffset val="100"/>
        <c:noMultiLvlLbl val="0"/>
      </c:catAx>
      <c:valAx>
        <c:axId val="82310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74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A28-6065-464E-BF0D-C98098EE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131-3A39-4596-B410-6D9123F5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597-C659-4BFB-8007-70B0DE3A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EBB-E633-4F85-A69C-C09A4A0A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AD8A-E82E-431C-A944-01699598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9F2-4AB1-458C-868F-1515796F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6997-936B-4AA6-8A24-FEFA231D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7AD4-6D33-4D54-B8E2-23888F03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B15-7C85-496A-8405-DBCA2EB0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694E-A502-43C6-88A4-46B3B314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074E-E067-4BE0-885F-531A542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D870-AED6-4C6A-AAEC-7FBFC349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DD2D7-3BB0-483C-8296-FEF69D37BE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