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29265"/>
        <c:axId val="98894202"/>
      </c:barChart>
      <c:catAx>
        <c:axId val="69129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94202"/>
        <c:crosses val="autoZero"/>
        <c:auto val="1"/>
        <c:lblAlgn val="ctr"/>
        <c:lblOffset val="100"/>
        <c:noMultiLvlLbl val="0"/>
      </c:catAx>
      <c:valAx>
        <c:axId val="98894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29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EB5-FCB4-477C-A840-0487EE9A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0DB-47D8-4C5C-95E2-CD14FE5E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2F9-572B-4373-8172-C995418C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F95-40CA-4F6C-BB9E-335C3132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17C-49FC-4E67-A145-A28AB984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3D0-2134-4092-8A17-FC2B531F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9F9-E95C-4067-AB33-FF529884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732-17D6-446B-8E53-EC5CEA5D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14C-BA6A-42F1-8ACF-BFCEBE3F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59B-2AE7-4445-8F29-8DA9697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169-8F5A-45DE-8951-5380B545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B8E-4418-4AA1-90BF-823E230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A0702-4A45-47AA-97F0-E859A6BFA2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