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17533"/>
        <c:axId val="67302848"/>
      </c:barChart>
      <c:catAx>
        <c:axId val="57417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02848"/>
        <c:crosses val="autoZero"/>
        <c:auto val="1"/>
        <c:lblAlgn val="ctr"/>
        <c:lblOffset val="100"/>
        <c:noMultiLvlLbl val="0"/>
      </c:catAx>
      <c:valAx>
        <c:axId val="67302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17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4B4-6118-48C0-B300-6963BD78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64B-6B79-47BA-A828-7AEB5918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411-C64F-44D8-95BF-ABC58F96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1F6-EE3F-4C51-BE61-D2C0A404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E5E-0D9C-4252-A389-4B5AAFAE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C79-D237-4A47-96B5-D7EC3C47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494-963E-4F8C-80B8-32CE1C9C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62A-12B3-46DF-84E3-DBCB71F5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D95-7154-4AA8-A4A9-1102B0A2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B2D-AE5D-4D83-B966-BD566162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CC1-FB6B-4AFB-9A12-7F56DD81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DCE-1C4D-482C-8588-73C328CD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0B5DE-BFEC-4663-9BB2-7F0A9BBBBD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