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09516"/>
        <c:axId val="94182630"/>
      </c:barChart>
      <c:catAx>
        <c:axId val="20509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82630"/>
        <c:crosses val="autoZero"/>
        <c:auto val="1"/>
        <c:lblAlgn val="ctr"/>
        <c:lblOffset val="100"/>
        <c:noMultiLvlLbl val="0"/>
      </c:catAx>
      <c:valAx>
        <c:axId val="94182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09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3B9-93DC-47BC-B1E2-6F8D562E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944-9D72-4AC7-97FD-97B7B2E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A7E-0370-4A78-A803-055E13DB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B7A-3597-462E-AF69-8EF9C1DF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967-B5E3-48C7-8155-BE9D334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617-0924-44B3-8D73-AFB6588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BB9-15E4-4163-9939-0DE5AC5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D12-502B-44DE-A147-658DB68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24E-AE4E-4BB5-BB70-260462C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CC2-19F2-4E39-99DC-A5FCC9F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A40-1F45-40FD-A7A9-A51B21B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A7A-EC04-4C42-80B7-AC9F01F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334CC-EFBA-4930-A58E-B3F75AC40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