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547585"/>
        <c:axId val="37123514"/>
      </c:barChart>
      <c:catAx>
        <c:axId val="315475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23514"/>
        <c:crosses val="autoZero"/>
        <c:auto val="1"/>
        <c:lblAlgn val="ctr"/>
        <c:lblOffset val="100"/>
        <c:noMultiLvlLbl val="0"/>
      </c:catAx>
      <c:valAx>
        <c:axId val="371235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5475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3645-EBEA-4375-8541-F997F1554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005D-E977-49CD-B9CA-8ED4DAD3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6D6F-918A-4722-B3C2-1B5EF049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6526-1FD3-44EE-8314-8F72A0F93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9D09-F8B7-4E6F-A3BA-9F4BE918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85D9-F232-4052-A312-F758A278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CE49-E858-417F-9717-A1770B6B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AB91-C302-434A-A4BE-701FA042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7BD5-EFE5-4C45-AFF5-5FA526C3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7848-0ED0-48A0-B1A6-3C550A48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F6F5-279C-426C-BF7C-1F557D83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7ACF-4565-4183-8358-AEDA92DC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10699-3222-4097-89C1-AA861DC9D4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