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347825"/>
        <c:axId val="23108272"/>
      </c:barChart>
      <c:catAx>
        <c:axId val="95347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08272"/>
        <c:crosses val="autoZero"/>
        <c:auto val="1"/>
        <c:lblAlgn val="ctr"/>
        <c:lblOffset val="100"/>
        <c:noMultiLvlLbl val="0"/>
      </c:catAx>
      <c:valAx>
        <c:axId val="231082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47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DA81-8B37-4D1E-942D-0365327D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249B-D2CB-49C4-B985-C96265C7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F3E-D0A0-4C4B-81C4-FF1DC44C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AE37-F5C0-4200-B48C-13B71B7B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B39E-3B78-4679-8657-08598DD3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921F-89ED-44E0-BB4E-EC48D00D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208-DFEA-4D0E-A752-E5A0DDAF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ADA2-369B-4459-BD0E-57C95FDC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0C1-E4BC-4085-A2C2-76D5CC69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10C-1CD9-4D11-955B-237A148B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76FD-5B43-4154-BC94-1C09CC30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38FD-DE32-4DE4-8CD6-2D62238C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D7D90-5D66-4EBF-ACFF-28BFAE60E6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