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89084"/>
        <c:axId val="94776990"/>
      </c:barChart>
      <c:catAx>
        <c:axId val="30089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76990"/>
        <c:crosses val="autoZero"/>
        <c:auto val="1"/>
        <c:lblAlgn val="ctr"/>
        <c:lblOffset val="100"/>
        <c:noMultiLvlLbl val="0"/>
      </c:catAx>
      <c:valAx>
        <c:axId val="94776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89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400-3310-4A77-8CF7-D81D2D8A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9A0-F5FA-4571-A3C4-322EC586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DB0-DC49-4D39-ADF5-58C53620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4EF-FD99-424C-8BBD-F9CFCC10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73B-9900-4EBF-8DAC-7B3411E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206-1AE6-4A3C-8D62-1F4F91AB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642-B645-44A4-835F-653AFFA7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F45-CF46-4B9D-89D8-E237DAC7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6D2-935D-4565-B456-139B51FB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76D-CB1B-4B84-8231-C0B214D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C1E-EB70-4FBD-AC5F-7BD60C2C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C59-7704-4F8C-9BDC-1D535CC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E3800-6A6C-4BAC-A250-BC3B212F01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