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38334"/>
        <c:axId val="99834182"/>
      </c:barChart>
      <c:catAx>
        <c:axId val="14038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34182"/>
        <c:crosses val="autoZero"/>
        <c:auto val="1"/>
        <c:lblAlgn val="ctr"/>
        <c:lblOffset val="100"/>
        <c:noMultiLvlLbl val="0"/>
      </c:catAx>
      <c:valAx>
        <c:axId val="99834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38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2E0-94C1-4DE7-ABD7-6BA5BA8A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027-0397-41F2-B083-96090497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B06-6FCB-4843-8ACB-32FF4062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EAD-A838-427A-8F1C-CBB0D6AA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345-9693-4615-92AF-47EA1281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21E-6593-4FB7-8AE1-81ECFE0A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F50-65C6-4F6C-9888-E93593E2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8A0-F073-4B37-8EEB-432AD0CD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EAD-DA98-434A-B888-B52490BB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F3E-0C2C-49C9-A6AC-228B22CA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9E7-002A-420F-85C9-746C0D12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4AE-16E2-4941-85B6-8E7DA9EA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A0824-746E-405D-8FAF-D500BE134A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