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449883"/>
        <c:axId val="37277509"/>
      </c:barChart>
      <c:catAx>
        <c:axId val="324498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77509"/>
        <c:crosses val="autoZero"/>
        <c:auto val="1"/>
        <c:lblAlgn val="ctr"/>
        <c:lblOffset val="100"/>
        <c:noMultiLvlLbl val="0"/>
      </c:catAx>
      <c:valAx>
        <c:axId val="37277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498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5AE-95D6-4D8D-9268-DB8531A7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84F-0ADB-4B5F-A6EB-375260BB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F70-BFAA-4F70-8120-C99BDE72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674-21C0-44AE-AC6B-0F159271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52E-D62B-4C00-B5BB-5C71A53B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B89-F71C-424C-A7D6-025C8E43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7226-1B0A-42B6-8BE4-23E4120A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AB7-C8AB-4A7D-9820-29C0D1FD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D39-7139-4D94-88F4-0A10091F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125F-BD49-4B71-B194-B7C5F2F1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8B2-8864-41F4-A31A-6AB8FD55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230-F46A-470B-9C7B-037FBC3A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C05C9-74EC-4526-A100-81B332D730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