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72772"/>
        <c:axId val="83111650"/>
      </c:barChart>
      <c:catAx>
        <c:axId val="83772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11650"/>
        <c:crosses val="autoZero"/>
        <c:auto val="1"/>
        <c:lblAlgn val="ctr"/>
        <c:lblOffset val="100"/>
        <c:noMultiLvlLbl val="0"/>
      </c:catAx>
      <c:valAx>
        <c:axId val="83111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2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4DB-E325-403A-8F0D-5C5151EF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C99-EF61-4C33-B411-B32C0AC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004-89FC-4F8B-9C52-D78C0008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7E1-19F1-4281-9DE4-ADA4E0D9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8ED-0B27-457F-A89E-C025A946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8C0-2DAA-4E1A-BB99-0AC3CAB3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3D0-9F47-435F-AEE6-E73A73CF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CEE-1808-4ACD-A938-D541A641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71E-85F4-4EE9-835B-3A900C74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D9F-AF17-4575-AE22-7720A07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758-85D3-49A8-8CC6-149C4F8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9BA-8F09-4F7D-ABB8-7001BB42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2A27A-E438-4EAC-8E36-D9F3FA81B1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